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C3C-411B-4B5A-8F84-6A4CE8A3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500-A274-4D32-AE35-38642DBB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0C4-2AB5-4257-BF96-9B6899DE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41C-C74F-40C6-B5AB-7044D770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CDD-901F-431C-982D-8C1605EC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293-4E48-4706-84A5-0F9E4B2E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4C4-26A1-4783-8D63-75EC1146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967-8238-4E9F-A60F-97F66D4A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FD7-E086-42B8-B1A0-47B36BD6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5A8-FCB5-472B-92FD-6502FA3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6F2-5336-4567-AE0A-710EDCA2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52E-13F1-46E8-A011-6035688C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1D9C-824C-483F-8BD8-8763846B0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otmath.com/hotmath_help/games/kp/kp_hotmath_sound.swf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Horizontal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horizont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a horizontal line y =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quation does not have a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 coordinate is always 2 (regardless of what we put in f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s try on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s make 3 or 4 values for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-3, 0, 1,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90720" y="3581280"/>
          <a:ext cx="1523880" cy="2587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656160" y="5794200"/>
            <a:ext cx="518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2860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388620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811680"/>
            <a:ext cx="15552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3809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3809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1520" y="3429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48680" y="3922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86760" y="3313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63280" y="3313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2514600"/>
          <a:ext cx="1523880" cy="2514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048120" y="63244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67280" y="14475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an equation for th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57150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343400" y="25142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8862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809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640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4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308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1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15160" y="3313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32640" y="4873680"/>
            <a:ext cx="9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n equation for t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57150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43400" y="25142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495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419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6400" y="4038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7120" y="4038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4520" y="403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3800" y="49500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s see you t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3352680"/>
            <a:ext cx="18273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1:27:30Z</dcterms:created>
  <dc:creator>CABELL BOE</dc:creator>
  <dc:description/>
  <dc:language>en-US</dc:language>
  <cp:lastModifiedBy>JRatliff</cp:lastModifiedBy>
  <dcterms:modified xsi:type="dcterms:W3CDTF">2008-10-24T15:36:17Z</dcterms:modified>
  <cp:revision>4</cp:revision>
  <dc:subject/>
  <dc:title>Graph Horizontal and Vertical Lines</dc:title>
</cp:coreProperties>
</file>